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C73-7797-4F6D-AFD0-CF7E6F40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CDB-9D46-4D80-B833-A40FBD12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E3E-11D5-4072-A4A9-1016595B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98F-7566-4FF5-B0C4-A685ACB3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C37-967A-4CDA-BD4E-78CF514D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684-67CB-420E-8406-96B329B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145-EAE0-4A04-AA2A-B4D5FA89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BAF-8000-4CEC-B5F9-C31D02F0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E9A-1147-4E03-B7D2-207F5EDD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8C8-88AD-4CBE-BBB3-BEB729F0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6A8-662A-4C01-8658-DEF5F246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688-01BD-4F8D-AEA2-BD69850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5D8C-C86D-4504-B888-530E8EA6D59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scraperwiki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1"/>
          <p:cNvSpPr/>
          <p:nvPr/>
        </p:nvSpPr>
        <p:spPr>
          <a:xfrm>
            <a:off x="984240" y="733320"/>
            <a:ext cx="1037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 MUSSACH GOM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eniero superior de telecomunic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ecutive MBA I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plomado en Gestión y Administración públ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ltimos año Derec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5 años trabajando en telecomunicaciones y sector 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Telefónica, Telefónica móviles, Retevisión, Madritel, Tiscali, Comunidad de Mad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los último años, especializándome como Data scient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y interesado en Python, Spark , machine learning y en el mundo de datos en ge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 Mussach Góm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6003478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mussach@gmail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2"/>
          <p:cNvSpPr/>
          <p:nvPr/>
        </p:nvSpPr>
        <p:spPr>
          <a:xfrm>
            <a:off x="633240" y="196920"/>
            <a:ext cx="543564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XTRACCION DE TODA LA HEMEROTECA DE EXPAN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uth = requests.auth.HTTPProxyAuth('jmussach', 'XXXXXX'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headers={'User-agent' : 'Mozilla/5.0'}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r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sponse=requests.get(url, proxies=proxies, auth=aut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s = response.cont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#print (r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s2 = BeautifulSoup(res, "html.parser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ilename = tldextract.extract(ur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name= "y:/expansion/"+filename.domain+str(randint(1,1040090))+str(randint(1,1040090))+str(randint(1,1040090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with open(name+ ".html", 'wb') as fh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h.write(r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with open(name+ ".txt", 'w') as fh2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h2.write(res2.get_text(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uadroTexto 3"/>
          <p:cNvSpPr/>
          <p:nvPr/>
        </p:nvSpPr>
        <p:spPr>
          <a:xfrm>
            <a:off x="6068880" y="196920"/>
            <a:ext cx="582948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cep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r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c=str(randint(1, 11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1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us-ca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2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us-fl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3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de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4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nl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5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sg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6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us-dc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7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ch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8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us-il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9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uk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10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us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f proxc=="11"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="us-ny.proxymesh.com:31280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xies = {'http': prox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sponse=requests.get(url, proxies=proxies, auth=aut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2"/>
          <p:cNvSpPr/>
          <p:nvPr/>
        </p:nvSpPr>
        <p:spPr>
          <a:xfrm>
            <a:off x="966960" y="409680"/>
            <a:ext cx="108853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 Scraping with Python: Collecting Data from the Modern Web 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in Strong-Humanizing Big Data_ Marketing at the Meeting of Data, Social Science and Consumer Insight-Kogan Page (2015) 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 your own web scraper and learn all about web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craping with Beautiful S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nual scra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arning selenium testing tools with Pyth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a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ython text processing with NLT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ython 2.6 text 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Coursera: Python for Everybody Specializatio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ython to Access Web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98600" y="271764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1. Porque hacer scraping (web profunda, monitorización del data archiving), indexación</a:t>
            </a: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2. Aplicaciones y sus problemas, porque python</a:t>
            </a: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3.Optimización de python para bajadas masivas</a:t>
            </a: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paralelización, etc etc</a:t>
            </a: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Podemos hacer una demo, de como se baja una hemeroteca o un boe</a:t>
            </a: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provincial en 5 min.</a:t>
            </a: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4. Librerías para parseo</a:t>
            </a: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5. Librerías anti-scraping para evitar las protecciones de las webs, links aleatorios, certificados digitales etc</a:t>
            </a: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Tor, proxys de pagos, cookies etc etc, protección pdfs,</a:t>
            </a: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alibri Light"/>
              </a:rPr>
              <a:t>6. Bibliograf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jmg156\AppData\Local\Temp\x10sctmp.png"/>
          <p:cNvPicPr/>
          <p:nvPr/>
        </p:nvPicPr>
        <p:blipFill>
          <a:blip r:embed="rId1"/>
          <a:stretch/>
        </p:blipFill>
        <p:spPr>
          <a:xfrm>
            <a:off x="1492200" y="695160"/>
            <a:ext cx="9715680" cy="5924880"/>
          </a:xfrm>
          <a:prstGeom prst="rect">
            <a:avLst/>
          </a:prstGeom>
          <a:ln w="0">
            <a:noFill/>
          </a:ln>
        </p:spPr>
      </p:pic>
      <p:sp>
        <p:nvSpPr>
          <p:cNvPr id="44" name="CuadroTexto 1"/>
          <p:cNvSpPr/>
          <p:nvPr/>
        </p:nvSpPr>
        <p:spPr>
          <a:xfrm>
            <a:off x="1166760" y="122400"/>
            <a:ext cx="103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90 % información no es accesible a través de los index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ángulo 1"/>
          <p:cNvSpPr/>
          <p:nvPr/>
        </p:nvSpPr>
        <p:spPr>
          <a:xfrm>
            <a:off x="1193760" y="326880"/>
            <a:ext cx="100062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Porque hacer scraping, web profunda, monitorización del data archiving, index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90 % información en datos no estructurad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2) El negocio está en el enriquecimiento de datos y convertirlos en inform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Negocio Big data 35 % crecimiento y entrada librerías machine learning a bajo coste para hacer aplicaciones intelig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3) Data achiving: 25 $ / TB y capacidad de proceso texto a bajo coste en modo clo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4) Cualquier hogar con fibra 300 Mbit/s  (y conocimientos) es capaz de bajarse todos los Boes en menos 1 hora, a coste marginal cero, o una hemeroteca de ABC.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5) Información no indexada, prohibición de indexación, links no accesibles, o solo por formulario, pdfs con protección o sin OC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6) Necesitad de indexación con indexadores mas potentes o inteligentes o indexación inver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Dtseach (binario, stemming, booleanos &lt; 100 TB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Elastic search (ilimitado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Etiquetación imáge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CuadroTexto 1"/>
          <p:cNvSpPr/>
          <p:nvPr/>
        </p:nvSpPr>
        <p:spPr>
          <a:xfrm>
            <a:off x="652320" y="426960"/>
            <a:ext cx="106077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LICACIONES PARA SCRA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REFOX- COMPLEMENTO IMACROS (GRATUITOS y para pequeñas cosa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y Fácil de usar, soluciona cualquier acceso pero l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ha de preparar lanzamiento antes no hay interacción sin pag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puede combinar con otros complementos (evitar cookies y anonimizar Ips proxy HMA proVP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y lento, integración bases de datos, conversión a datos estructu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licaciones deskto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ttp://scraping.pro/software-for-web-scrapin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lataformas Cloud (de pago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scraperwiki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mport.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ttp://scrapinghub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lución a coste marginal cero: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ython (para andar por casa y resultados profesiona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uadroTexto 1"/>
          <p:cNvSpPr/>
          <p:nvPr/>
        </p:nvSpPr>
        <p:spPr>
          <a:xfrm>
            <a:off x="4603680" y="438480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horra tiempo, se pone el foco en donde está el negocio, en enriquecer los da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amente costoso para grandes volúme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servicios de consultoría para asuntos complej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ángulo 1"/>
          <p:cNvSpPr/>
          <p:nvPr/>
        </p:nvSpPr>
        <p:spPr>
          <a:xfrm>
            <a:off x="955800" y="-357120"/>
            <a:ext cx="10213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COMO LOGRAR ESCRAPEAR &lt; 1 TB  &lt;10 Mill requests desde casa a coste marginal c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&gt;Comparado frente coste en plataformas Saas &gt; 500 $ mes  (ahorro importa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tratación fibra 300 Mbits simétr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Recomendacio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uter altas prestaciones + firewall y antivi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co SSD o Data in-memory (Ram 58.000 veces mas rápido disco y 2000 veces que SS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moria &gt; 64 -128 GB / i7 / ventiladores alto rendimiento y ultima tecnología bajo consu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curar hacer un proceso in-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ases de datos alta prestaciones (mongodb/cassandra etc) - Combinar con Cloud híbrido (datos netos) y plataformas de visualiz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gún orquestrador de proce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cos &gt;8 TB (22 $ T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as con Python o docker (synology) para peticiones baj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ftwar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ython 3.5  (mejora &gt;50 % CPU sistemas paralelos) frente 2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licar paraleris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lenium. Scrapy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xy para web con antiscrapping tipo proxymesh, et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cker (para crecer en cloud hibri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uadroTexto 1"/>
          <p:cNvSpPr/>
          <p:nvPr/>
        </p:nvSpPr>
        <p:spPr>
          <a:xfrm>
            <a:off x="1101600" y="311040"/>
            <a:ext cx="1014120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COMO LOGRAR ESCRAPEAR &gt;1 TB  &gt;10 Mill requests desde casa a coste marginal c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loud Hibrida  (solución ide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uidado con coste IOPs o acceso a disco (intentar procesamiento in-memory y tipos de disco sin coste IOP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grar a soluciones en SPARK – SPARK strea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ws Amazon: Kinesis (performance parecidas) Kaf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rvicio no crítico -&gt;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pot instanc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aprovechar valles de prec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o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rvicio de D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mb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o de elastic-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1"/>
          <p:cNvSpPr/>
          <p:nvPr/>
        </p:nvSpPr>
        <p:spPr>
          <a:xfrm>
            <a:off x="907920" y="304920"/>
            <a:ext cx="10250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ANTISCRA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ODO SE PUEDE SCRAPEAR, CUESTION DE DINERO/TIEMPO !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rol por 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xys (hma VPN, proxymesh, Tor (gratuito) pero baja calidad, proxies en instancias amaz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tección de scripts, puls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ularios con campos ocul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avascript: selen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tchas :  -&gt;Apis, Opencv, librerías de machine lea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"/>
          <p:cNvSpPr/>
          <p:nvPr/>
        </p:nvSpPr>
        <p:spPr>
          <a:xfrm>
            <a:off x="789120" y="685800"/>
            <a:ext cx="505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coding: utf-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# Instruccio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1. Exportar certificado (cert.p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   https://www.sede.fnmt.gob.es/preguntas-frecuentes/exp-imp-y-elim-de-certific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2. Extracción de la clave priv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   $ openssl pkcs12 -in cert.p12 -nocerts -out cert.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3. Extracción del cert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   $ openssl pkcs12 -in cert.p12 -clcerts -nokeys -out cert.c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4. Ejecución del scri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   $ python fichero.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5. visualización del result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#    $ python -m http.server &amp; xdg-open http://0.0.0.0:8000/output.html  para quitar password P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uadroTexto 2"/>
          <p:cNvSpPr/>
          <p:nvPr/>
        </p:nvSpPr>
        <p:spPr>
          <a:xfrm>
            <a:off x="477720" y="135000"/>
            <a:ext cx="11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BAJAR CON CERTIFIC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6254640" y="696960"/>
            <a:ext cx="567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mport os.p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mport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mport urlli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mport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om bs4 import BeautifulS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om urllib.request import urlo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mport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ERT = os.path.abspath("cert.crt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KEY = os.path.abspath("cert.key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f dwld(ur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q = requests.get(url, cert=(CERT, KEY), verify=Fals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s = req.cont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s2 = BeautifulSoup(res, "html.parser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with open("y:/ejemplo/output".html", 'wb') as 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tent = req.text.encode(req.encod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.write(cont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2T12:13:24Z</dcterms:created>
  <dc:creator>MUSSACH GOMEZ, JOSE</dc:creator>
  <dc:description/>
  <dc:language>en-US</dc:language>
  <cp:lastModifiedBy>MUSSACH GOMEZ, JOSE</cp:lastModifiedBy>
  <dcterms:modified xsi:type="dcterms:W3CDTF">2016-01-13T15:40:18Z</dcterms:modified>
  <cp:revision>59</cp:revision>
  <dc:subject/>
  <dc:title>Presentación de PowerPoint</dc:title>
</cp:coreProperties>
</file>